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2.wmf" ContentType="image/x-wmf"/>
  <Override PartName="/ppt/media/image25.wmf" ContentType="image/x-wmf"/>
  <Override PartName="/ppt/media/image26.wmf" ContentType="image/x-wmf"/>
  <Override PartName="/ppt/media/image1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49A7-C044-4980-87BD-5203C28FC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0846-702D-47BC-8D22-FD04CE60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AE2D-43D6-45E2-A10F-8C0B9A85F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2886-9973-45B0-BFD4-C19D8ABB4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AC49-EDC0-4F53-B2AF-A3AD1142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81BE-651C-481B-BDEB-0626B8B6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2F5A-D27C-4DB5-BFF6-764B1A5E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7659-CE40-4BD3-8A97-065933D4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76FE-A1F7-49B7-904E-F184A3B6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2808-AA88-46F1-BA1C-02BAB899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859F-DF7A-46A4-9E51-2605B89B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7168-055C-4DD9-97E1-6E47DA1D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BAEC-03F3-4C40-9473-5C3BA4A78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zmacniacze operacyj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98440" y="5976720"/>
            <a:ext cx="640080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k.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3360" y="1362240"/>
            <a:ext cx="8480520" cy="2282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półczynniki zależności napięcia niezrównoważenia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d zmian napięcia zasilania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SVRR - ang.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supply voltage rejection rati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 wartość 1-50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V/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301920" y="4618080"/>
                <a:ext cx="19652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VR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ilani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109960" y="3711600"/>
            <a:ext cx="2880" cy="836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112840" y="5204880"/>
            <a:ext cx="0" cy="41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806480" y="4543560"/>
            <a:ext cx="627120" cy="666720"/>
            <a:chOff x="1806480" y="4543560"/>
            <a:chExt cx="627120" cy="666720"/>
          </a:xfrm>
        </p:grpSpPr>
        <p:sp>
          <p:nvSpPr>
            <p:cNvPr id="199" name=""/>
            <p:cNvSpPr/>
            <p:nvPr/>
          </p:nvSpPr>
          <p:spPr>
            <a:xfrm>
              <a:off x="1806480" y="4543560"/>
              <a:ext cx="62712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09600" y="466416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967040" y="562284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566040" y="3962520"/>
            <a:ext cx="0" cy="31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06800" y="562284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00440" y="3400560"/>
            <a:ext cx="0" cy="10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13040" y="3386160"/>
            <a:ext cx="98280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55960" y="364824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78200" y="3716280"/>
            <a:ext cx="16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12840" y="3711600"/>
            <a:ext cx="1595520" cy="4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90960" y="4172040"/>
            <a:ext cx="617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41920" y="3895560"/>
            <a:ext cx="295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90800" y="4172040"/>
            <a:ext cx="1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3722760" y="3895560"/>
            <a:ext cx="97632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97520" y="3841920"/>
            <a:ext cx="108000" cy="997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33880" y="3662280"/>
            <a:ext cx="107640" cy="1000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33880" y="4130640"/>
            <a:ext cx="10764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57640" y="5270400"/>
            <a:ext cx="0" cy="362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62680" y="4145040"/>
            <a:ext cx="0" cy="798480"/>
          </a:xfrm>
          <a:prstGeom prst="line">
            <a:avLst/>
          </a:prstGeom>
          <a:ln w="648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32320" y="4584600"/>
            <a:ext cx="699840" cy="57960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000" spc="-1" strike="noStrike" baseline="-25000">
                <a:solidFill>
                  <a:srgbClr val="000000"/>
                </a:solidFill>
                <a:latin typeface="Times New Roman"/>
              </a:rPr>
              <a:t>in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92640" y="4309920"/>
            <a:ext cx="544680" cy="5241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97520" y="5164200"/>
            <a:ext cx="10800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840280" y="4421160"/>
            <a:ext cx="627120" cy="666720"/>
            <a:chOff x="5840280" y="4421160"/>
            <a:chExt cx="627120" cy="666720"/>
          </a:xfrm>
        </p:grpSpPr>
        <p:sp>
          <p:nvSpPr>
            <p:cNvPr id="222" name=""/>
            <p:cNvSpPr/>
            <p:nvPr/>
          </p:nvSpPr>
          <p:spPr>
            <a:xfrm>
              <a:off x="5840280" y="4421160"/>
              <a:ext cx="62712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43400" y="454176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845320" y="3086280"/>
            <a:ext cx="626760" cy="666720"/>
            <a:chOff x="5845320" y="3086280"/>
            <a:chExt cx="626760" cy="666720"/>
          </a:xfrm>
        </p:grpSpPr>
        <p:sp>
          <p:nvSpPr>
            <p:cNvPr id="225" name=""/>
            <p:cNvSpPr/>
            <p:nvPr/>
          </p:nvSpPr>
          <p:spPr>
            <a:xfrm>
              <a:off x="5845320" y="3086280"/>
              <a:ext cx="62676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48080" y="320688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146480" y="2817720"/>
            <a:ext cx="2000160" cy="800280"/>
          </a:xfrm>
          <a:custGeom>
            <a:avLst/>
            <a:gdLst/>
            <a:ahLst/>
            <a:rect l="l" t="t" r="r" b="b"/>
            <a:pathLst>
              <a:path w="1260" h="504">
                <a:moveTo>
                  <a:pt x="0" y="504"/>
                </a:moveTo>
                <a:lnTo>
                  <a:pt x="0" y="0"/>
                </a:lnTo>
                <a:lnTo>
                  <a:pt x="1260" y="0"/>
                </a:lnTo>
                <a:lnTo>
                  <a:pt x="1260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146640" y="3760920"/>
            <a:ext cx="0" cy="66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56200" y="4189320"/>
            <a:ext cx="2000160" cy="1685880"/>
          </a:xfrm>
          <a:custGeom>
            <a:avLst/>
            <a:gdLst/>
            <a:ahLst/>
            <a:rect l="l" t="t" r="r" b="b"/>
            <a:pathLst>
              <a:path w="1260" h="1062">
                <a:moveTo>
                  <a:pt x="0" y="0"/>
                </a:moveTo>
                <a:lnTo>
                  <a:pt x="0" y="1062"/>
                </a:lnTo>
                <a:lnTo>
                  <a:pt x="1260" y="1062"/>
                </a:lnTo>
                <a:lnTo>
                  <a:pt x="1260" y="56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56360" y="4132440"/>
            <a:ext cx="4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9120" y="409428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98880" y="4170240"/>
            <a:ext cx="0" cy="145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967120" y="561348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55240" y="3049560"/>
            <a:ext cx="5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650640" y="4611600"/>
            <a:ext cx="5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70320" y="3713040"/>
            <a:ext cx="5047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094200" y="4479480"/>
            <a:ext cx="0" cy="505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78720" y="3116160"/>
            <a:ext cx="70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59720" y="478296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80920" y="4106880"/>
            <a:ext cx="60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49040" y="5938920"/>
            <a:ext cx="297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ypowo: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5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4120" y="1530360"/>
            <a:ext cx="48625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silanie symetryczne (dwubateryj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914400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ilani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166760" y="3676680"/>
            <a:ext cx="3240" cy="836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170000" y="5169960"/>
            <a:ext cx="0" cy="41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63640" y="4508640"/>
            <a:ext cx="627120" cy="666720"/>
            <a:chOff x="863640" y="4508640"/>
            <a:chExt cx="627120" cy="666720"/>
          </a:xfrm>
        </p:grpSpPr>
        <p:sp>
          <p:nvSpPr>
            <p:cNvPr id="247" name=""/>
            <p:cNvSpPr/>
            <p:nvPr/>
          </p:nvSpPr>
          <p:spPr>
            <a:xfrm>
              <a:off x="863640" y="4508640"/>
              <a:ext cx="62712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166760" y="462924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023840" y="558792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06800" y="562284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700440" y="3400560"/>
            <a:ext cx="0" cy="10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713040" y="3386160"/>
            <a:ext cx="98280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55960" y="364824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78200" y="3716280"/>
            <a:ext cx="16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23920" y="3708360"/>
            <a:ext cx="2584440" cy="7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90960" y="4172040"/>
            <a:ext cx="617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41920" y="3895560"/>
            <a:ext cx="295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90800" y="4172040"/>
            <a:ext cx="1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3722760" y="3895560"/>
            <a:ext cx="97632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97520" y="3841920"/>
            <a:ext cx="108000" cy="997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33880" y="3662280"/>
            <a:ext cx="107640" cy="1000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33880" y="4130640"/>
            <a:ext cx="10764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57640" y="5270400"/>
            <a:ext cx="0" cy="362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62680" y="4145040"/>
            <a:ext cx="0" cy="798480"/>
          </a:xfrm>
          <a:prstGeom prst="line">
            <a:avLst/>
          </a:prstGeom>
          <a:ln w="648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92640" y="4309920"/>
            <a:ext cx="544680" cy="5241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97520" y="5164200"/>
            <a:ext cx="10800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845320" y="3086280"/>
            <a:ext cx="626760" cy="666720"/>
            <a:chOff x="5845320" y="3086280"/>
            <a:chExt cx="626760" cy="666720"/>
          </a:xfrm>
        </p:grpSpPr>
        <p:sp>
          <p:nvSpPr>
            <p:cNvPr id="268" name=""/>
            <p:cNvSpPr/>
            <p:nvPr/>
          </p:nvSpPr>
          <p:spPr>
            <a:xfrm>
              <a:off x="5845320" y="3086280"/>
              <a:ext cx="62676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148080" y="320688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146480" y="2513160"/>
            <a:ext cx="2000160" cy="1104840"/>
          </a:xfrm>
          <a:custGeom>
            <a:avLst/>
            <a:gdLst/>
            <a:ahLst/>
            <a:rect l="l" t="t" r="r" b="b"/>
            <a:pathLst>
              <a:path w="1260" h="504">
                <a:moveTo>
                  <a:pt x="0" y="504"/>
                </a:moveTo>
                <a:lnTo>
                  <a:pt x="0" y="0"/>
                </a:lnTo>
                <a:lnTo>
                  <a:pt x="1260" y="0"/>
                </a:lnTo>
                <a:lnTo>
                  <a:pt x="1260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46640" y="3760920"/>
            <a:ext cx="0" cy="18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89320" y="480528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3016080" y="412884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94040" y="563256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555240" y="3049560"/>
            <a:ext cx="5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470320" y="3713040"/>
            <a:ext cx="5047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43160" y="4162320"/>
            <a:ext cx="5050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48440" y="3098880"/>
            <a:ext cx="70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32880" y="437364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1160" y="4106880"/>
            <a:ext cx="60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57240" y="1301760"/>
            <a:ext cx="512604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silanie asymetryczne - jednobateryj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81400" y="4162320"/>
            <a:ext cx="0" cy="146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054320" y="562464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12000" y="560700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78280" y="2830680"/>
            <a:ext cx="176040" cy="493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75040" y="4686480"/>
            <a:ext cx="176040" cy="493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3057480" y="3343320"/>
            <a:ext cx="0" cy="13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48120" y="5181480"/>
            <a:ext cx="0" cy="44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389320" y="488160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52760" y="4181400"/>
            <a:ext cx="504720" cy="628560"/>
          </a:xfrm>
          <a:custGeom>
            <a:avLst/>
            <a:gdLst/>
            <a:ahLst/>
            <a:rect l="l" t="t" r="r" b="b"/>
            <a:pathLst>
              <a:path w="318" h="396">
                <a:moveTo>
                  <a:pt x="318" y="0"/>
                </a:moveTo>
                <a:lnTo>
                  <a:pt x="0" y="0"/>
                </a:lnTo>
                <a:lnTo>
                  <a:pt x="0" y="3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52760" y="4896000"/>
            <a:ext cx="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89320" y="560376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86280" y="2523960"/>
            <a:ext cx="1076040" cy="314640"/>
          </a:xfrm>
          <a:custGeom>
            <a:avLst/>
            <a:gdLst/>
            <a:ahLst/>
            <a:rect l="l" t="t" r="r" b="b"/>
            <a:pathLst>
              <a:path w="678" h="198">
                <a:moveTo>
                  <a:pt x="678" y="0"/>
                </a:moveTo>
                <a:lnTo>
                  <a:pt x="0" y="0"/>
                </a:lnTo>
                <a:lnTo>
                  <a:pt x="0" y="19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5400000">
            <a:off x="4101480" y="2481120"/>
            <a:ext cx="7488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04640" y="579744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kład „sztucznej mas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62720" y="456264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56360" y="2840040"/>
            <a:ext cx="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39800" y="4232160"/>
            <a:ext cx="723960" cy="1287720"/>
          </a:xfrm>
          <a:custGeom>
            <a:avLst/>
            <a:gdLst/>
            <a:ahLst/>
            <a:rect l="l" t="t" r="r" b="b"/>
            <a:pathLst>
              <a:path w="456" h="811">
                <a:moveTo>
                  <a:pt x="0" y="811"/>
                </a:moveTo>
                <a:cubicBezTo>
                  <a:pt x="20" y="720"/>
                  <a:pt x="47" y="402"/>
                  <a:pt x="123" y="267"/>
                </a:cubicBezTo>
                <a:cubicBezTo>
                  <a:pt x="199" y="132"/>
                  <a:pt x="387" y="56"/>
                  <a:pt x="456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9480" y="5727600"/>
            <a:ext cx="148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U = 0,5U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05000" y="2222640"/>
            <a:ext cx="1305000" cy="39319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dowa wzmacniaczy operacyj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33360" y="1101600"/>
          <a:ext cx="8194680" cy="506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101600"/>
                    <a:ext cx="8194680" cy="50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5054760" y="4689360"/>
            <a:ext cx="74520" cy="74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97480" y="4694400"/>
            <a:ext cx="7452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00840" y="1279440"/>
            <a:ext cx="7452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33320" y="6005520"/>
            <a:ext cx="36295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dwustopn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51760" y="154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02880" y="37702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111800" y="2774880"/>
            <a:ext cx="88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dowa wzmacniaczy operacyj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312720" y="1162080"/>
            <a:ext cx="24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nie wejś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262080" y="1616040"/>
            <a:ext cx="8057880" cy="3193920"/>
            <a:chOff x="262080" y="1616040"/>
            <a:chExt cx="8057880" cy="3193920"/>
          </a:xfrm>
        </p:grpSpPr>
        <p:graphicFrame>
          <p:nvGraphicFramePr>
            <p:cNvPr id="314" name=""/>
            <p:cNvGraphicFramePr/>
            <p:nvPr/>
          </p:nvGraphicFramePr>
          <p:xfrm>
            <a:off x="262080" y="1616040"/>
            <a:ext cx="5286240" cy="3193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2080" y="1616040"/>
                      <a:ext cx="5286240" cy="319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6" name=""/>
            <p:cNvGraphicFramePr/>
            <p:nvPr/>
          </p:nvGraphicFramePr>
          <p:xfrm>
            <a:off x="6078600" y="1884240"/>
            <a:ext cx="2241360" cy="2641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78600" y="1884240"/>
                      <a:ext cx="2241360" cy="264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18" name=""/>
          <p:cNvSpPr/>
          <p:nvPr/>
        </p:nvSpPr>
        <p:spPr>
          <a:xfrm>
            <a:off x="333720" y="5334120"/>
            <a:ext cx="145188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żnic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95400" y="5334120"/>
            <a:ext cx="2070360" cy="1191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ara różnic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układz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arling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124160" y="5334120"/>
            <a:ext cx="207036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różnic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 pol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576840" y="5334120"/>
            <a:ext cx="214668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różnicow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 super-b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esymetryzacja stopnia wejśc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747800" y="1166760"/>
          <a:ext cx="5518080" cy="524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7800" y="1166760"/>
                    <a:ext cx="5518080" cy="52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operacyjny C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738360" y="1417680"/>
          <a:ext cx="79768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360" y="1417680"/>
                    <a:ext cx="79768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39240"/>
            <a:ext cx="9144000" cy="6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łaściwości dynamiczn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20440" y="2041560"/>
            <a:ext cx="38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bliżenie jednobiegun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80480" y="4346640"/>
            <a:ext cx="37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bliżenie dwubiegun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4757760" y="1852560"/>
                <a:ext cx="178272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4653000" y="4259160"/>
                <a:ext cx="270180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o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668160" y="1247760"/>
          <a:ext cx="8221680" cy="496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247760"/>
                    <a:ext cx="8221680" cy="49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łaściwości dynamiczn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łaściwości dynamiczn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076400" y="628560"/>
          <a:ext cx="6595920" cy="52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628560"/>
                    <a:ext cx="659592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1721160" y="5886360"/>
            <a:ext cx="63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kterystyka częstotliwościowa typowego 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85800" y="1747800"/>
          <a:ext cx="8236080" cy="41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47800"/>
                    <a:ext cx="8236080" cy="41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1141560" y="1263600"/>
            <a:ext cx="14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mbol 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32040" y="1255680"/>
            <a:ext cx="491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proszczone charakterystyki przejsciowe 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ensacja częstotliwościowa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9040" y="1384200"/>
            <a:ext cx="3052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L KOMPENSACJ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pewnienie stabilnej p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ie wzbudzanie si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po zamknięciu pęt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ujemnego sprzęż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zwrot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240" y="5535720"/>
            <a:ext cx="8919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wewnętrzny= wzmacniacz wewnętrznie skompensowany 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74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zewnętrzny= kompensacja zewnętrzna - lepsza, szersze pasmo itp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230280" y="1344600"/>
            <a:ext cx="4902120" cy="3929040"/>
            <a:chOff x="3230280" y="1344600"/>
            <a:chExt cx="4902120" cy="3929040"/>
          </a:xfrm>
        </p:grpSpPr>
        <p:sp>
          <p:nvSpPr>
            <p:cNvPr id="344" name=""/>
            <p:cNvSpPr/>
            <p:nvPr/>
          </p:nvSpPr>
          <p:spPr>
            <a:xfrm>
              <a:off x="5105520" y="3120120"/>
              <a:ext cx="909360" cy="1053000"/>
            </a:xfrm>
            <a:custGeom>
              <a:avLst/>
              <a:gdLst/>
              <a:ahLst/>
              <a:rect l="l" t="t" r="r" b="b"/>
              <a:pathLst>
                <a:path w="576" h="720">
                  <a:moveTo>
                    <a:pt x="0" y="0"/>
                  </a:moveTo>
                  <a:lnTo>
                    <a:pt x="0" y="720"/>
                  </a:lnTo>
                  <a:lnTo>
                    <a:pt x="576" y="3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4947120" y="2766240"/>
              <a:ext cx="503280" cy="280800"/>
              <a:chOff x="4947120" y="2766240"/>
              <a:chExt cx="503280" cy="280800"/>
            </a:xfrm>
          </p:grpSpPr>
          <p:sp>
            <p:nvSpPr>
              <p:cNvPr id="346" name=""/>
              <p:cNvSpPr/>
              <p:nvPr/>
            </p:nvSpPr>
            <p:spPr>
              <a:xfrm>
                <a:off x="4947120" y="2906280"/>
                <a:ext cx="45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85600" y="2766240"/>
                <a:ext cx="0" cy="280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450400" y="2766240"/>
                <a:ext cx="0" cy="280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5450760" y="2905200"/>
              <a:ext cx="828360" cy="810000"/>
            </a:xfrm>
            <a:custGeom>
              <a:avLst/>
              <a:gdLst/>
              <a:ahLst/>
              <a:rect l="l" t="t" r="r" b="b"/>
              <a:pathLst>
                <a:path w="768" h="720">
                  <a:moveTo>
                    <a:pt x="0" y="0"/>
                  </a:moveTo>
                  <a:lnTo>
                    <a:pt x="768" y="0"/>
                  </a:lnTo>
                  <a:lnTo>
                    <a:pt x="768" y="720"/>
                  </a:lnTo>
                  <a:lnTo>
                    <a:pt x="528" y="7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40400" y="290808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00560" y="3645360"/>
              <a:ext cx="12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359680" y="3525480"/>
              <a:ext cx="53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u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3869640" y="3080520"/>
              <a:ext cx="909360" cy="1053000"/>
              <a:chOff x="3869640" y="3080520"/>
              <a:chExt cx="909360" cy="1053000"/>
            </a:xfrm>
          </p:grpSpPr>
          <p:sp>
            <p:nvSpPr>
              <p:cNvPr id="354" name=""/>
              <p:cNvSpPr/>
              <p:nvPr/>
            </p:nvSpPr>
            <p:spPr>
              <a:xfrm>
                <a:off x="3869640" y="3080520"/>
                <a:ext cx="909360" cy="105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0" y="0"/>
                    </a:moveTo>
                    <a:lnTo>
                      <a:pt x="0" y="720"/>
                    </a:lnTo>
                    <a:lnTo>
                      <a:pt x="576" y="38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934440" y="3360960"/>
                <a:ext cx="129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34440" y="3712320"/>
                <a:ext cx="129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3999240" y="3641400"/>
                <a:ext cx="0" cy="140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4783320" y="3642480"/>
              <a:ext cx="31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887720" y="3611520"/>
              <a:ext cx="64800" cy="70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230280" y="3373200"/>
              <a:ext cx="62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241440" y="3794400"/>
              <a:ext cx="62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87280" y="3324960"/>
              <a:ext cx="629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u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943160" y="2916720"/>
              <a:ext cx="0" cy="73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61280" y="1344600"/>
              <a:ext cx="3676680" cy="3929040"/>
            </a:xfrm>
            <a:custGeom>
              <a:avLst/>
              <a:gdLst/>
              <a:ahLst/>
              <a:rect l="l" t="t" r="r" b="b"/>
              <a:pathLst>
                <a:path w="576" h="720">
                  <a:moveTo>
                    <a:pt x="0" y="0"/>
                  </a:moveTo>
                  <a:lnTo>
                    <a:pt x="0" y="720"/>
                  </a:lnTo>
                  <a:lnTo>
                    <a:pt x="576" y="3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82000" y="3453840"/>
              <a:ext cx="18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250680" y="3395160"/>
              <a:ext cx="64800" cy="70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ensacja częstotliwościowa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279440" y="2046240"/>
          <a:ext cx="6850080" cy="38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9440" y="2046240"/>
                    <a:ext cx="6850080" cy="38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ensacja częstotliwościowa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333360" y="1479600"/>
          <a:ext cx="8810640" cy="42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479600"/>
                    <a:ext cx="8810640" cy="42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y model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371600" y="1676520"/>
          <a:ext cx="6851520" cy="456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685152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333360" y="2093760"/>
          <a:ext cx="8466120" cy="30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2093760"/>
                    <a:ext cx="8466120" cy="30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1928520" y="1362240"/>
            <a:ext cx="54889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Maksymalne napięcie międzyszczyt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99200" y="5711760"/>
            <a:ext cx="6433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Maksymalny prąd wyjściowy typowo n*10[m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2932200" y="1601640"/>
          <a:ext cx="5916600" cy="46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2200" y="1601640"/>
                    <a:ext cx="5916600" cy="46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333360" y="2052720"/>
                <a:ext cx="27338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898200" y="1362240"/>
            <a:ext cx="14104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740640" y="3794040"/>
            <a:ext cx="395280" cy="2509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47200" y="382104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963120" y="3900600"/>
            <a:ext cx="115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S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292880" y="4232160"/>
            <a:ext cx="254160" cy="56844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424640" y="3586320"/>
            <a:ext cx="862200" cy="5331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7477200" y="3622680"/>
            <a:ext cx="734760" cy="461520"/>
            <a:chOff x="7477200" y="3622680"/>
            <a:chExt cx="734760" cy="461520"/>
          </a:xfrm>
        </p:grpSpPr>
        <p:sp>
          <p:nvSpPr>
            <p:cNvPr id="393" name=""/>
            <p:cNvSpPr/>
            <p:nvPr/>
          </p:nvSpPr>
          <p:spPr>
            <a:xfrm>
              <a:off x="7477200" y="3838680"/>
              <a:ext cx="2696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27920" y="3838680"/>
              <a:ext cx="284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488360" y="362268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d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542360" y="3862440"/>
              <a:ext cx="12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d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981200" y="36226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002080" y="386244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050320" y="3706920"/>
              <a:ext cx="1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107920" y="394668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78800" y="37069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821360" y="3718080"/>
              <a:ext cx="13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3924360" y="2752560"/>
            <a:ext cx="187200" cy="2383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988440" y="278460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775560" y="2763720"/>
            <a:ext cx="18720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39280" y="27957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775560" y="3989520"/>
            <a:ext cx="18720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39280" y="40179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13200" y="3978360"/>
            <a:ext cx="187200" cy="2347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75480" y="40053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3849840" y="2752560"/>
            <a:ext cx="82440" cy="846360"/>
            <a:chOff x="3849840" y="2752560"/>
            <a:chExt cx="82440" cy="846360"/>
          </a:xfrm>
        </p:grpSpPr>
        <p:sp>
          <p:nvSpPr>
            <p:cNvPr id="412" name=""/>
            <p:cNvSpPr/>
            <p:nvPr/>
          </p:nvSpPr>
          <p:spPr>
            <a:xfrm>
              <a:off x="3889440" y="2827440"/>
              <a:ext cx="1440" cy="771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849840" y="2752560"/>
              <a:ext cx="82440" cy="828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52"/>
                  </a:moveTo>
                  <a:lnTo>
                    <a:pt x="25" y="0"/>
                  </a:lnTo>
                  <a:lnTo>
                    <a:pt x="0" y="52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870360" y="3556080"/>
            <a:ext cx="1855800" cy="81000"/>
            <a:chOff x="3870360" y="3556080"/>
            <a:chExt cx="1855800" cy="81000"/>
          </a:xfrm>
        </p:grpSpPr>
        <p:sp>
          <p:nvSpPr>
            <p:cNvPr id="415" name=""/>
            <p:cNvSpPr/>
            <p:nvPr/>
          </p:nvSpPr>
          <p:spPr>
            <a:xfrm flipH="1" flipV="1">
              <a:off x="3870360" y="3590640"/>
              <a:ext cx="178128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643720" y="3556080"/>
              <a:ext cx="8244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0" y="51"/>
                  </a:moveTo>
                  <a:lnTo>
                    <a:pt x="52" y="24"/>
                  </a:lnTo>
                  <a:lnTo>
                    <a:pt x="0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3849840" y="3967200"/>
            <a:ext cx="82440" cy="844560"/>
            <a:chOff x="3849840" y="3967200"/>
            <a:chExt cx="82440" cy="844560"/>
          </a:xfrm>
        </p:grpSpPr>
        <p:sp>
          <p:nvSpPr>
            <p:cNvPr id="418" name=""/>
            <p:cNvSpPr/>
            <p:nvPr/>
          </p:nvSpPr>
          <p:spPr>
            <a:xfrm>
              <a:off x="3889440" y="4040280"/>
              <a:ext cx="1440" cy="771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49840" y="3967200"/>
              <a:ext cx="8244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52" y="51"/>
                  </a:moveTo>
                  <a:lnTo>
                    <a:pt x="25" y="0"/>
                  </a:lnTo>
                  <a:lnTo>
                    <a:pt x="0" y="51"/>
                  </a:lnTo>
                  <a:lnTo>
                    <a:pt x="5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3870360" y="4765680"/>
            <a:ext cx="1855800" cy="82440"/>
            <a:chOff x="3870360" y="4765680"/>
            <a:chExt cx="1855800" cy="82440"/>
          </a:xfrm>
        </p:grpSpPr>
        <p:sp>
          <p:nvSpPr>
            <p:cNvPr id="421" name=""/>
            <p:cNvSpPr/>
            <p:nvPr/>
          </p:nvSpPr>
          <p:spPr>
            <a:xfrm flipH="1">
              <a:off x="3870360" y="4805280"/>
              <a:ext cx="1781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643720" y="476568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52"/>
                  </a:moveTo>
                  <a:lnTo>
                    <a:pt x="52" y="25"/>
                  </a:lnTo>
                  <a:lnTo>
                    <a:pt x="0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700680" y="2768760"/>
            <a:ext cx="82800" cy="841320"/>
            <a:chOff x="6700680" y="2768760"/>
            <a:chExt cx="82800" cy="841320"/>
          </a:xfrm>
        </p:grpSpPr>
        <p:sp>
          <p:nvSpPr>
            <p:cNvPr id="424" name=""/>
            <p:cNvSpPr/>
            <p:nvPr/>
          </p:nvSpPr>
          <p:spPr>
            <a:xfrm>
              <a:off x="6740640" y="2843280"/>
              <a:ext cx="1440" cy="766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700680" y="2768760"/>
              <a:ext cx="82800" cy="8064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52" y="51"/>
                  </a:moveTo>
                  <a:lnTo>
                    <a:pt x="25" y="0"/>
                  </a:lnTo>
                  <a:lnTo>
                    <a:pt x="0" y="51"/>
                  </a:lnTo>
                  <a:lnTo>
                    <a:pt x="5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719400" y="3559320"/>
            <a:ext cx="1853280" cy="82440"/>
            <a:chOff x="6719400" y="3559320"/>
            <a:chExt cx="1853280" cy="82440"/>
          </a:xfrm>
        </p:grpSpPr>
        <p:sp>
          <p:nvSpPr>
            <p:cNvPr id="427" name=""/>
            <p:cNvSpPr/>
            <p:nvPr/>
          </p:nvSpPr>
          <p:spPr>
            <a:xfrm flipH="1">
              <a:off x="6719400" y="3598920"/>
              <a:ext cx="177804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489880" y="3559320"/>
              <a:ext cx="8280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52"/>
                  </a:moveTo>
                  <a:lnTo>
                    <a:pt x="52" y="25"/>
                  </a:lnTo>
                  <a:lnTo>
                    <a:pt x="0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00680" y="3978360"/>
            <a:ext cx="82800" cy="846000"/>
            <a:chOff x="6700680" y="3978360"/>
            <a:chExt cx="82800" cy="846000"/>
          </a:xfrm>
        </p:grpSpPr>
        <p:sp>
          <p:nvSpPr>
            <p:cNvPr id="430" name=""/>
            <p:cNvSpPr/>
            <p:nvPr/>
          </p:nvSpPr>
          <p:spPr>
            <a:xfrm>
              <a:off x="6740640" y="4052880"/>
              <a:ext cx="1440" cy="771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700680" y="3978360"/>
              <a:ext cx="8280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52"/>
                  </a:moveTo>
                  <a:lnTo>
                    <a:pt x="25" y="0"/>
                  </a:lnTo>
                  <a:lnTo>
                    <a:pt x="0" y="52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6719760" y="4776840"/>
            <a:ext cx="1857600" cy="82440"/>
            <a:chOff x="6719760" y="4776840"/>
            <a:chExt cx="1857600" cy="82440"/>
          </a:xfrm>
        </p:grpSpPr>
        <p:sp>
          <p:nvSpPr>
            <p:cNvPr id="433" name=""/>
            <p:cNvSpPr/>
            <p:nvPr/>
          </p:nvSpPr>
          <p:spPr>
            <a:xfrm flipH="1">
              <a:off x="6719760" y="4816440"/>
              <a:ext cx="17827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494560" y="4776840"/>
              <a:ext cx="8280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52"/>
                  </a:moveTo>
                  <a:lnTo>
                    <a:pt x="52" y="25"/>
                  </a:lnTo>
                  <a:lnTo>
                    <a:pt x="0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3889440" y="3586320"/>
            <a:ext cx="24588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89440" y="4797360"/>
            <a:ext cx="245880" cy="180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751800" y="4808520"/>
            <a:ext cx="247320" cy="324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132440" y="2862000"/>
            <a:ext cx="2880" cy="7239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6999120" y="2878200"/>
            <a:ext cx="1800" cy="720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751800" y="3598920"/>
            <a:ext cx="24732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43240" y="2862360"/>
            <a:ext cx="146052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010280" y="2878200"/>
            <a:ext cx="145728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4127400" y="4071960"/>
            <a:ext cx="12960" cy="728640"/>
            <a:chOff x="4127400" y="4071960"/>
            <a:chExt cx="12960" cy="728640"/>
          </a:xfrm>
        </p:grpSpPr>
        <p:sp>
          <p:nvSpPr>
            <p:cNvPr id="444" name=""/>
            <p:cNvSpPr/>
            <p:nvPr/>
          </p:nvSpPr>
          <p:spPr>
            <a:xfrm>
              <a:off x="4127400" y="4792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127400" y="4776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7400" y="4761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127400" y="474660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127400" y="4730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127400" y="4714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127400" y="4699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127400" y="4683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127400" y="4667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127400" y="465120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27400" y="4635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127400" y="4621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127400" y="4605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27400" y="4589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127400" y="457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127400" y="4557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127400" y="4541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127400" y="4525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127400" y="45115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27400" y="4495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27400" y="4479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127400" y="4464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127400" y="4448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127400" y="4432320"/>
              <a:ext cx="1296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32440" y="4416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132440" y="4400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132440" y="4386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32440" y="4370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32440" y="4354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32440" y="4338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32440" y="4322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32440" y="4307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132440" y="429084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32440" y="427680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32440" y="4260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132440" y="4245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132440" y="422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132440" y="4213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132440" y="4197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32440" y="4181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132440" y="4165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132440" y="415116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32440" y="4135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132440" y="411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1324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324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32440" y="4071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6994440" y="4087800"/>
            <a:ext cx="7920" cy="728640"/>
            <a:chOff x="6994440" y="4087800"/>
            <a:chExt cx="7920" cy="728640"/>
          </a:xfrm>
        </p:grpSpPr>
        <p:sp>
          <p:nvSpPr>
            <p:cNvPr id="492" name=""/>
            <p:cNvSpPr/>
            <p:nvPr/>
          </p:nvSpPr>
          <p:spPr>
            <a:xfrm>
              <a:off x="6994440" y="48085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94440" y="4792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994440" y="4776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994440" y="4761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994440" y="474660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994440" y="4730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994440" y="4714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994440" y="4699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994440" y="4683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94440" y="4667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94440" y="465120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994440" y="4635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94440" y="4621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994440" y="4605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994440" y="4589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94440" y="457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994440" y="4557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994440" y="4541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994440" y="4525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994440" y="45115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994440" y="4495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94440" y="4479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994440" y="4464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994440" y="4448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994440" y="4432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994440" y="4416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994440" y="4400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994440" y="4386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94440" y="4370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994440" y="4354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994440" y="4338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94440" y="4322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994440" y="4307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994440" y="429084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994440" y="427680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994440" y="4260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94440" y="4245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994440" y="422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994440" y="4213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994440" y="4197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94440" y="4181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994440" y="4165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994440" y="415116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994440" y="4135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994440" y="411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9944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9944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4135320" y="4087800"/>
            <a:ext cx="728640" cy="11160"/>
            <a:chOff x="4135320" y="4087800"/>
            <a:chExt cx="728640" cy="11160"/>
          </a:xfrm>
        </p:grpSpPr>
        <p:sp>
          <p:nvSpPr>
            <p:cNvPr id="540" name=""/>
            <p:cNvSpPr/>
            <p:nvPr/>
          </p:nvSpPr>
          <p:spPr>
            <a:xfrm>
              <a:off x="41353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511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673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832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990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148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2292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2451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2609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2768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2926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3084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3243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340160" y="408780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545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3704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3862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4020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179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337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49600" y="408780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4640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798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4956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5115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5277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5435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5594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575240" y="409248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896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6054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6213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6371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6530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6688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6846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6990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7149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7307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7466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7624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7782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7941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809960" y="409248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8243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402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8560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7010280" y="4095720"/>
            <a:ext cx="493920" cy="15840"/>
            <a:chOff x="7010280" y="4095720"/>
            <a:chExt cx="493920" cy="15840"/>
          </a:xfrm>
        </p:grpSpPr>
        <p:sp>
          <p:nvSpPr>
            <p:cNvPr id="588" name=""/>
            <p:cNvSpPr/>
            <p:nvPr/>
          </p:nvSpPr>
          <p:spPr>
            <a:xfrm>
              <a:off x="701028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2612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4232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58160" y="4103640"/>
              <a:ext cx="612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7220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880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1042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12008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13592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15176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1676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1820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19784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21368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22952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24536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2612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27704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292880" y="409896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30728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32312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3896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3548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37064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38648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40268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1672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43256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44840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6460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48044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49628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 flipV="1">
            <a:off x="7010280" y="4248000"/>
            <a:ext cx="243000" cy="5637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586640" y="4098960"/>
            <a:ext cx="793800" cy="144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719600" y="4087800"/>
            <a:ext cx="798480" cy="144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7240680" y="3927600"/>
            <a:ext cx="162000" cy="320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71920" y="3954600"/>
            <a:ext cx="274680" cy="2347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671640" y="39816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747960" y="40608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571920" y="2739960"/>
            <a:ext cx="27468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652560" y="27687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699720" y="2846520"/>
            <a:ext cx="8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670200" y="3438360"/>
            <a:ext cx="187560" cy="2383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754080" y="34686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670200" y="4687920"/>
            <a:ext cx="187560" cy="2379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754080" y="47149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541840" y="3645000"/>
            <a:ext cx="18756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642640" y="3676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529240" y="4848120"/>
            <a:ext cx="18900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629680" y="48751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410160" y="3989520"/>
            <a:ext cx="27468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509880" y="40179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586200" y="4095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410160" y="2779560"/>
            <a:ext cx="27468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490800" y="28065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539760" y="2886120"/>
            <a:ext cx="8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508800" y="3476520"/>
            <a:ext cx="18900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592320" y="35035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508800" y="4722840"/>
            <a:ext cx="189000" cy="2379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592320" y="47530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380440" y="3684600"/>
            <a:ext cx="18900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480880" y="3711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369280" y="4883040"/>
            <a:ext cx="187200" cy="2383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469720" y="49100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218120" y="2336760"/>
            <a:ext cx="1927080" cy="34920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2403360"/>
            <a:ext cx="139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małe sygnały [m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532560" y="2313000"/>
            <a:ext cx="2023920" cy="3603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965280" y="2344680"/>
            <a:ext cx="1899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duże sygnały [V]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229520" y="4210200"/>
            <a:ext cx="55440" cy="5400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534440" y="4282920"/>
            <a:ext cx="912600" cy="45900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1249200" y="3154320"/>
            <a:ext cx="1800" cy="90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1260360" y="3619080"/>
            <a:ext cx="7192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1363680" y="3725640"/>
            <a:ext cx="1440" cy="12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308240" y="3784680"/>
            <a:ext cx="115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39680" y="3784680"/>
            <a:ext cx="2160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039680" y="3387600"/>
            <a:ext cx="2160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014560" y="3627360"/>
            <a:ext cx="2160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316160" y="3389400"/>
            <a:ext cx="115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 flipV="1">
            <a:off x="1265040" y="3178080"/>
            <a:ext cx="718920" cy="44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232000" y="3592440"/>
            <a:ext cx="77760" cy="874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1020240" y="4494240"/>
            <a:ext cx="1535400" cy="4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033560" y="4513320"/>
            <a:ext cx="0" cy="27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84240" y="3343320"/>
            <a:ext cx="77760" cy="871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984240" y="3749760"/>
            <a:ext cx="77760" cy="856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68360" y="3770280"/>
            <a:ext cx="1800" cy="600120"/>
          </a:xfrm>
          <a:prstGeom prst="line">
            <a:avLst/>
          </a:prstGeom>
          <a:ln w="19080">
            <a:solidFill>
              <a:srgbClr val="ff33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031760" y="3894120"/>
            <a:ext cx="1800" cy="530280"/>
          </a:xfrm>
          <a:prstGeom prst="line">
            <a:avLst/>
          </a:prstGeom>
          <a:ln w="19080">
            <a:solidFill>
              <a:srgbClr val="3333cc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995400" y="4446720"/>
            <a:ext cx="76320" cy="856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955800" y="4757760"/>
            <a:ext cx="172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583000" y="3836880"/>
            <a:ext cx="401400" cy="5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55480" y="3894120"/>
            <a:ext cx="40176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719160" y="1284120"/>
            <a:ext cx="14104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39800" y="2098800"/>
            <a:ext cx="2206440" cy="758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305080" y="2487600"/>
            <a:ext cx="976320" cy="1131840"/>
          </a:xfrm>
          <a:custGeom>
            <a:avLst/>
            <a:gdLst/>
            <a:ahLst/>
            <a:rect l="l" t="t" r="r" b="b"/>
            <a:pathLst>
              <a:path w="615" h="713">
                <a:moveTo>
                  <a:pt x="415" y="0"/>
                </a:moveTo>
                <a:lnTo>
                  <a:pt x="615" y="0"/>
                </a:lnTo>
                <a:lnTo>
                  <a:pt x="615" y="711"/>
                </a:lnTo>
                <a:lnTo>
                  <a:pt x="0" y="71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23720" y="2505240"/>
            <a:ext cx="563760" cy="880920"/>
          </a:xfrm>
          <a:custGeom>
            <a:avLst/>
            <a:gdLst/>
            <a:ahLst/>
            <a:rect l="l" t="t" r="r" b="b"/>
            <a:pathLst>
              <a:path w="355" h="555">
                <a:moveTo>
                  <a:pt x="211" y="0"/>
                </a:moveTo>
                <a:lnTo>
                  <a:pt x="0" y="0"/>
                </a:lnTo>
                <a:lnTo>
                  <a:pt x="0" y="555"/>
                </a:lnTo>
                <a:lnTo>
                  <a:pt x="355" y="55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133880" y="4086360"/>
            <a:ext cx="600120" cy="714240"/>
          </a:xfrm>
          <a:custGeom>
            <a:avLst/>
            <a:gdLst/>
            <a:ahLst/>
            <a:rect l="l" t="t" r="r" b="b"/>
            <a:pathLst>
              <a:path w="378" h="450">
                <a:moveTo>
                  <a:pt x="0" y="450"/>
                </a:moveTo>
                <a:cubicBezTo>
                  <a:pt x="4" y="396"/>
                  <a:pt x="9" y="342"/>
                  <a:pt x="18" y="294"/>
                </a:cubicBezTo>
                <a:cubicBezTo>
                  <a:pt x="27" y="246"/>
                  <a:pt x="36" y="203"/>
                  <a:pt x="54" y="162"/>
                </a:cubicBezTo>
                <a:cubicBezTo>
                  <a:pt x="72" y="121"/>
                  <a:pt x="96" y="73"/>
                  <a:pt x="126" y="48"/>
                </a:cubicBezTo>
                <a:cubicBezTo>
                  <a:pt x="156" y="23"/>
                  <a:pt x="192" y="20"/>
                  <a:pt x="234" y="12"/>
                </a:cubicBezTo>
                <a:cubicBezTo>
                  <a:pt x="276" y="4"/>
                  <a:pt x="327" y="2"/>
                  <a:pt x="378" y="0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257960" y="4086360"/>
            <a:ext cx="333360" cy="152280"/>
          </a:xfrm>
          <a:custGeom>
            <a:avLst/>
            <a:gdLst/>
            <a:ahLst/>
            <a:rect l="l" t="t" r="r" b="b"/>
            <a:pathLst>
              <a:path w="210" h="96">
                <a:moveTo>
                  <a:pt x="0" y="96"/>
                </a:moveTo>
                <a:cubicBezTo>
                  <a:pt x="12" y="71"/>
                  <a:pt x="25" y="46"/>
                  <a:pt x="60" y="30"/>
                </a:cubicBezTo>
                <a:cubicBezTo>
                  <a:pt x="95" y="14"/>
                  <a:pt x="152" y="7"/>
                  <a:pt x="210" y="0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033440" y="494676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[u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42880" y="496584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[m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102560" y="280512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cc"/>
                </a:solidFill>
                <a:latin typeface="Times New Roman"/>
              </a:rPr>
              <a:t>[mV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015320" y="281304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[V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298400" y="417672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[0,1V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318440" y="4253040"/>
            <a:ext cx="6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[1V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3801960" y="1708200"/>
          <a:ext cx="4876920" cy="48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1960" y="1708200"/>
                    <a:ext cx="4876920" cy="48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3" name=""/>
          <p:cNvSpPr/>
          <p:nvPr/>
        </p:nvSpPr>
        <p:spPr>
          <a:xfrm>
            <a:off x="2376000" y="966960"/>
            <a:ext cx="392076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 (przykład wtórnika: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1003320" y="3476520"/>
            <a:ext cx="2028960" cy="1461960"/>
            <a:chOff x="1003320" y="3476520"/>
            <a:chExt cx="2028960" cy="1461960"/>
          </a:xfrm>
        </p:grpSpPr>
        <p:sp>
          <p:nvSpPr>
            <p:cNvPr id="695" name=""/>
            <p:cNvSpPr/>
            <p:nvPr/>
          </p:nvSpPr>
          <p:spPr>
            <a:xfrm flipV="1">
              <a:off x="1657800" y="3742200"/>
              <a:ext cx="1080" cy="66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1667160" y="4083480"/>
              <a:ext cx="678240" cy="33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1765440" y="4160880"/>
              <a:ext cx="10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12520" y="4204800"/>
              <a:ext cx="108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460160" y="4204800"/>
              <a:ext cx="20340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460160" y="3913920"/>
              <a:ext cx="20340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377800" y="4089960"/>
              <a:ext cx="2030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1443600" y="3476520"/>
              <a:ext cx="1080" cy="419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2574000" y="3476520"/>
              <a:ext cx="1080" cy="622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719720" y="3915000"/>
              <a:ext cx="108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 flipV="1">
              <a:off x="1671840" y="3759120"/>
              <a:ext cx="678240" cy="33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538360" y="4056840"/>
              <a:ext cx="72720" cy="63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1431360" y="3476520"/>
              <a:ext cx="11426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1440720" y="4725360"/>
              <a:ext cx="14475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452960" y="4739400"/>
              <a:ext cx="1080" cy="19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07600" y="3881160"/>
              <a:ext cx="72720" cy="63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407600" y="4178880"/>
              <a:ext cx="72720" cy="63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582640" y="4215240"/>
              <a:ext cx="1080" cy="441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451880" y="4285800"/>
              <a:ext cx="1080" cy="388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416960" y="4690440"/>
              <a:ext cx="72720" cy="630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379880" y="4919040"/>
              <a:ext cx="162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654280" y="4250520"/>
              <a:ext cx="378000" cy="37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003320" y="4285800"/>
              <a:ext cx="378000" cy="37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72560" y="2239920"/>
            <a:ext cx="78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33cc"/>
                </a:solidFill>
                <a:latin typeface="Times New Roman"/>
              </a:rPr>
              <a:t>Pasmo małosygnałow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&gt; ? &gt; </a:t>
            </a:r>
            <a:r>
              <a:rPr b="0" lang="pl-PL" sz="2800" spc="-1" strike="noStrike">
                <a:solidFill>
                  <a:srgbClr val="ff3300"/>
                </a:solidFill>
                <a:latin typeface="Times New Roman"/>
              </a:rPr>
              <a:t>Pasmo wielkosygnał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719160" y="1362240"/>
            <a:ext cx="14104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501640" y="339876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Ku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1639440" y="3570120"/>
            <a:ext cx="5769360" cy="2606040"/>
            <a:chOff x="1639440" y="3570120"/>
            <a:chExt cx="5769360" cy="2606040"/>
          </a:xfrm>
        </p:grpSpPr>
        <p:grpSp>
          <p:nvGrpSpPr>
            <p:cNvPr id="723" name=""/>
            <p:cNvGrpSpPr/>
            <p:nvPr/>
          </p:nvGrpSpPr>
          <p:grpSpPr>
            <a:xfrm>
              <a:off x="1639440" y="3570120"/>
              <a:ext cx="5769360" cy="2131560"/>
              <a:chOff x="1639440" y="3570120"/>
              <a:chExt cx="5769360" cy="2131560"/>
            </a:xfrm>
          </p:grpSpPr>
          <p:sp>
            <p:nvSpPr>
              <p:cNvPr id="724" name=""/>
              <p:cNvSpPr/>
              <p:nvPr/>
            </p:nvSpPr>
            <p:spPr>
              <a:xfrm>
                <a:off x="2646000" y="5546520"/>
                <a:ext cx="423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2682720" y="3570120"/>
                <a:ext cx="0" cy="197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682720" y="4103640"/>
                <a:ext cx="3686040" cy="1449360"/>
              </a:xfrm>
              <a:custGeom>
                <a:avLst/>
                <a:gdLst/>
                <a:ahLst/>
                <a:rect l="l" t="t" r="r" b="b"/>
                <a:pathLst>
                  <a:path w="2322" h="913">
                    <a:moveTo>
                      <a:pt x="0" y="9"/>
                    </a:moveTo>
                    <a:cubicBezTo>
                      <a:pt x="266" y="4"/>
                      <a:pt x="532" y="0"/>
                      <a:pt x="778" y="20"/>
                    </a:cubicBezTo>
                    <a:cubicBezTo>
                      <a:pt x="1024" y="40"/>
                      <a:pt x="1315" y="68"/>
                      <a:pt x="1478" y="131"/>
                    </a:cubicBezTo>
                    <a:cubicBezTo>
                      <a:pt x="1641" y="194"/>
                      <a:pt x="1681" y="313"/>
                      <a:pt x="1755" y="398"/>
                    </a:cubicBezTo>
                    <a:cubicBezTo>
                      <a:pt x="1829" y="483"/>
                      <a:pt x="1872" y="572"/>
                      <a:pt x="1922" y="642"/>
                    </a:cubicBezTo>
                    <a:cubicBezTo>
                      <a:pt x="1972" y="712"/>
                      <a:pt x="2000" y="777"/>
                      <a:pt x="2056" y="820"/>
                    </a:cubicBezTo>
                    <a:cubicBezTo>
                      <a:pt x="2112" y="863"/>
                      <a:pt x="2212" y="883"/>
                      <a:pt x="2256" y="898"/>
                    </a:cubicBezTo>
                    <a:cubicBezTo>
                      <a:pt x="2300" y="913"/>
                      <a:pt x="2307" y="903"/>
                      <a:pt x="2322" y="909"/>
                    </a:cubicBezTo>
                  </a:path>
                </a:pathLst>
              </a:custGeom>
              <a:noFill/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717640" y="4132080"/>
                <a:ext cx="3139920" cy="1416240"/>
              </a:xfrm>
              <a:custGeom>
                <a:avLst/>
                <a:gdLst/>
                <a:ahLst/>
                <a:rect l="l" t="t" r="r" b="b"/>
                <a:pathLst>
                  <a:path w="1978" h="892">
                    <a:moveTo>
                      <a:pt x="0" y="13"/>
                    </a:moveTo>
                    <a:cubicBezTo>
                      <a:pt x="175" y="6"/>
                      <a:pt x="350" y="0"/>
                      <a:pt x="500" y="24"/>
                    </a:cubicBezTo>
                    <a:cubicBezTo>
                      <a:pt x="650" y="48"/>
                      <a:pt x="770" y="71"/>
                      <a:pt x="900" y="158"/>
                    </a:cubicBezTo>
                    <a:cubicBezTo>
                      <a:pt x="1030" y="245"/>
                      <a:pt x="1158" y="433"/>
                      <a:pt x="1278" y="546"/>
                    </a:cubicBezTo>
                    <a:cubicBezTo>
                      <a:pt x="1398" y="659"/>
                      <a:pt x="1505" y="778"/>
                      <a:pt x="1622" y="835"/>
                    </a:cubicBezTo>
                    <a:cubicBezTo>
                      <a:pt x="1739" y="892"/>
                      <a:pt x="1919" y="882"/>
                      <a:pt x="1978" y="891"/>
                    </a:cubicBez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125840" y="524196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646000" y="4576680"/>
                <a:ext cx="365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639440" y="4290840"/>
                <a:ext cx="1089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,7K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u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114280" y="3708360"/>
                <a:ext cx="6440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u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376520" y="4576680"/>
                <a:ext cx="0" cy="9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381280" y="4576680"/>
                <a:ext cx="0" cy="9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4092480" y="57164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3300"/>
                  </a:solidFill>
                  <a:latin typeface="Times New Roman"/>
                </a:rPr>
                <a:t>F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148000" y="57164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33cc"/>
                  </a:solidFill>
                  <a:latin typeface="Times New Roman"/>
                </a:rPr>
                <a:t>f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akromodel WO (Boy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7" name=""/>
          <p:cNvGraphicFramePr/>
          <p:nvPr/>
        </p:nvGraphicFramePr>
        <p:xfrm>
          <a:off x="333360" y="1693800"/>
          <a:ext cx="8542440" cy="37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693800"/>
                    <a:ext cx="8542440" cy="37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2960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1040" y="1149480"/>
            <a:ext cx="7682040" cy="53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zmocnienie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ud, min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                                                          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półczynnik tłumienia sygnału sumacyjnego CMRR  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rąd wejściowy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Wejściowy prąd niezrównoważenia   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ejściowe napięcie niezrównoważeni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p. temp. wejściowego napięcia niezrównown.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p. zmian wejśc. nap.  niezrówn. od zmian nap.  zasilania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Rezystancja wejściow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d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Rezystancja wyjściow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zerokość pasm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lub 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asmo wielkosygnałowe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aksymalna prędkość zmian napięcia wyjściowego (S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aksymalne napięcie wejściowe różnicowe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D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aksymalne wspólne napięcie wejściowe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C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Napięcie zasilania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obór mocy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P.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Zakres temperatury pracy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 , t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0" name=""/>
          <p:cNvGraphicFramePr/>
          <p:nvPr/>
        </p:nvGraphicFramePr>
        <p:xfrm>
          <a:off x="333360" y="2338560"/>
          <a:ext cx="8474040" cy="26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2338560"/>
                    <a:ext cx="8474040" cy="26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2" name=""/>
          <p:cNvSpPr/>
          <p:nvPr/>
        </p:nvSpPr>
        <p:spPr>
          <a:xfrm>
            <a:off x="2605680" y="1362240"/>
            <a:ext cx="34617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odwracają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919080" y="5119560"/>
                <a:ext cx="208440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0" y="4638600"/>
            <a:ext cx="9144000" cy="221940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90040" y="1387440"/>
            <a:ext cx="383544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nieodwracają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333360" y="1959120"/>
          <a:ext cx="8545680" cy="26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959120"/>
                    <a:ext cx="854568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4513320" y="1243080"/>
                <a:ext cx="227628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50" name=""/>
          <p:cNvGrpSpPr/>
          <p:nvPr/>
        </p:nvGrpSpPr>
        <p:grpSpPr>
          <a:xfrm>
            <a:off x="3859200" y="4727520"/>
            <a:ext cx="2668680" cy="1916280"/>
            <a:chOff x="3859200" y="4727520"/>
            <a:chExt cx="2668680" cy="1916280"/>
          </a:xfrm>
        </p:grpSpPr>
        <p:sp>
          <p:nvSpPr>
            <p:cNvPr id="751" name=""/>
            <p:cNvSpPr/>
            <p:nvPr/>
          </p:nvSpPr>
          <p:spPr>
            <a:xfrm flipV="1">
              <a:off x="4636440" y="5099760"/>
              <a:ext cx="1080" cy="87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4647240" y="5546880"/>
              <a:ext cx="763920" cy="43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4757760" y="5648760"/>
              <a:ext cx="1080" cy="11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698360" y="5705640"/>
              <a:ext cx="122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413960" y="5705640"/>
              <a:ext cx="228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413960" y="5324400"/>
              <a:ext cx="228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447520" y="5554800"/>
              <a:ext cx="51444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4404600" y="4727520"/>
              <a:ext cx="1080" cy="60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5668560" y="4739400"/>
              <a:ext cx="1080" cy="827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706640" y="5325840"/>
              <a:ext cx="122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 flipV="1">
              <a:off x="4652640" y="5120640"/>
              <a:ext cx="763920" cy="43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910840" y="5511960"/>
              <a:ext cx="82080" cy="82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4395240" y="4739760"/>
              <a:ext cx="12744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627880" y="5511960"/>
              <a:ext cx="82080" cy="828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354920" y="5662440"/>
              <a:ext cx="82080" cy="82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406040" y="6371640"/>
              <a:ext cx="1080" cy="261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364280" y="6284160"/>
              <a:ext cx="82080" cy="82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404600" y="5811840"/>
              <a:ext cx="1080" cy="393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303800" y="6642360"/>
              <a:ext cx="203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859200" y="5765760"/>
              <a:ext cx="486360" cy="48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041520" y="5327280"/>
              <a:ext cx="486360" cy="48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666000" y="50925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tórnik na W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Stabilność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4" name=""/>
          <p:cNvGraphicFramePr/>
          <p:nvPr/>
        </p:nvGraphicFramePr>
        <p:xfrm>
          <a:off x="703440" y="2624040"/>
          <a:ext cx="3902040" cy="33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2624040"/>
                    <a:ext cx="390204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5018040" y="4395960"/>
                <a:ext cx="262908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5041800" y="3608280"/>
                <a:ext cx="25686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78" name=""/>
          <p:cNvSpPr/>
          <p:nvPr/>
        </p:nvSpPr>
        <p:spPr>
          <a:xfrm>
            <a:off x="2638800" y="1362240"/>
            <a:ext cx="31219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różnic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6386400" y="2205000"/>
            <a:ext cx="2540160" cy="2786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0" name=""/>
          <p:cNvGraphicFramePr/>
          <p:nvPr/>
        </p:nvGraphicFramePr>
        <p:xfrm>
          <a:off x="333360" y="2174760"/>
          <a:ext cx="881064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2174760"/>
                    <a:ext cx="881064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333360" y="5243400"/>
                <a:ext cx="29545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4745160" y="5183280"/>
                <a:ext cx="407016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959200" y="1362240"/>
            <a:ext cx="32241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pomiar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6" name=""/>
          <p:cNvGraphicFramePr/>
          <p:nvPr/>
        </p:nvGraphicFramePr>
        <p:xfrm>
          <a:off x="2182680" y="2990880"/>
          <a:ext cx="4303800" cy="34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2680" y="2990880"/>
                    <a:ext cx="430380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1512720" y="2076480"/>
                <a:ext cx="570564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-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920680" y="1362240"/>
            <a:ext cx="30045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sumu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1" name=""/>
          <p:cNvGraphicFramePr/>
          <p:nvPr/>
        </p:nvGraphicFramePr>
        <p:xfrm>
          <a:off x="333360" y="4502160"/>
          <a:ext cx="857736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4502160"/>
                    <a:ext cx="857736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719280" y="3222720"/>
                <a:ext cx="26208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4614840" y="3317760"/>
                <a:ext cx="24652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5" name=""/>
          <p:cNvSpPr/>
          <p:nvPr/>
        </p:nvSpPr>
        <p:spPr>
          <a:xfrm>
            <a:off x="806760" y="1704960"/>
            <a:ext cx="74563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całkując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różniczku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2606760" y="3660840"/>
          <a:ext cx="3387600" cy="279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6760" y="3660840"/>
                    <a:ext cx="3387600" cy="27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0" name=""/>
          <p:cNvSpPr/>
          <p:nvPr/>
        </p:nvSpPr>
        <p:spPr>
          <a:xfrm>
            <a:off x="3455280" y="2790720"/>
            <a:ext cx="15555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i="1" lang="pl-PL" sz="2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pl-PL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615280" y="43545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870280" y="1704960"/>
            <a:ext cx="34117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twornik prąd-napięc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4" name=""/>
          <p:cNvGraphicFramePr/>
          <p:nvPr/>
        </p:nvGraphicFramePr>
        <p:xfrm>
          <a:off x="4229280" y="2600280"/>
          <a:ext cx="3531960" cy="37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9280" y="2600280"/>
                    <a:ext cx="3531960" cy="37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5140440" y="1362240"/>
                <a:ext cx="146988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ź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7" name=""/>
          <p:cNvSpPr/>
          <p:nvPr/>
        </p:nvSpPr>
        <p:spPr>
          <a:xfrm>
            <a:off x="331920" y="1582560"/>
            <a:ext cx="360504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twornik napięcie-prą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terowane źródło prąd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rowani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76360" y="1744560"/>
          <a:ext cx="7948440" cy="28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1744560"/>
                    <a:ext cx="7948440" cy="28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962360" y="4794120"/>
            <a:ext cx="52081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- składowa różnic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- składowa sumacyjna (wspól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344600"/>
            <a:ext cx="1903320" cy="579600"/>
          </a:xfrm>
          <a:prstGeom prst="borderCallout2">
            <a:avLst>
              <a:gd name="adj1" fmla="val 18750"/>
              <a:gd name="adj2" fmla="val -8333"/>
              <a:gd name="adj3" fmla="val 21620"/>
              <a:gd name="adj4" fmla="val -12342"/>
              <a:gd name="adj5" fmla="val 215203"/>
              <a:gd name="adj6" fmla="val -41773"/>
            </a:avLst>
          </a:prstGeom>
          <a:solidFill>
            <a:srgbClr val="99ccff"/>
          </a:solidFill>
          <a:ln w="9360">
            <a:solidFill>
              <a:srgbClr val="ff33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n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n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028960" y="2715840"/>
            <a:ext cx="0" cy="2826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33360" y="1432080"/>
          <a:ext cx="8432640" cy="485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432080"/>
                    <a:ext cx="8432640" cy="48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33360" y="1432080"/>
          <a:ext cx="7780320" cy="494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432080"/>
                    <a:ext cx="7780320" cy="49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57200" y="2379600"/>
                <a:ext cx="312408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105520" y="2438280"/>
                <a:ext cx="19810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330480" y="1449360"/>
            <a:ext cx="32241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różnic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10920" y="1449360"/>
            <a:ext cx="32590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sumacyj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183440" y="3941640"/>
            <a:ext cx="104760" cy="57240"/>
            <a:chOff x="7183440" y="3941640"/>
            <a:chExt cx="104760" cy="57240"/>
          </a:xfrm>
        </p:grpSpPr>
        <p:sp>
          <p:nvSpPr>
            <p:cNvPr id="67" name=""/>
            <p:cNvSpPr/>
            <p:nvPr/>
          </p:nvSpPr>
          <p:spPr>
            <a:xfrm>
              <a:off x="7183440" y="3941640"/>
              <a:ext cx="104760" cy="5724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0" y="0"/>
                  </a:moveTo>
                  <a:lnTo>
                    <a:pt x="25" y="1"/>
                  </a:lnTo>
                  <a:lnTo>
                    <a:pt x="46" y="9"/>
                  </a:lnTo>
                  <a:lnTo>
                    <a:pt x="54" y="15"/>
                  </a:lnTo>
                  <a:lnTo>
                    <a:pt x="60" y="21"/>
                  </a:lnTo>
                  <a:lnTo>
                    <a:pt x="64" y="28"/>
                  </a:lnTo>
                  <a:lnTo>
                    <a:pt x="66" y="36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83440" y="3941640"/>
              <a:ext cx="104760" cy="5724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0" y="0"/>
                  </a:moveTo>
                  <a:lnTo>
                    <a:pt x="25" y="1"/>
                  </a:lnTo>
                  <a:lnTo>
                    <a:pt x="46" y="9"/>
                  </a:lnTo>
                  <a:lnTo>
                    <a:pt x="54" y="15"/>
                  </a:lnTo>
                  <a:lnTo>
                    <a:pt x="60" y="21"/>
                  </a:lnTo>
                  <a:lnTo>
                    <a:pt x="64" y="28"/>
                  </a:lnTo>
                  <a:lnTo>
                    <a:pt x="66" y="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6821640" y="3767040"/>
            <a:ext cx="1440" cy="1792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83440" y="3757680"/>
            <a:ext cx="1440" cy="180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3767040"/>
            <a:ext cx="3240" cy="1792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902720" y="3757680"/>
            <a:ext cx="6120" cy="180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8259480" y="3757680"/>
            <a:ext cx="3240" cy="180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821280" y="3757680"/>
            <a:ext cx="143820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811560" y="4118040"/>
            <a:ext cx="143820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811560" y="4479840"/>
            <a:ext cx="1438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821280" y="4840200"/>
            <a:ext cx="1438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811560" y="5200560"/>
            <a:ext cx="1438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811560" y="5559480"/>
            <a:ext cx="14382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21640" y="3941640"/>
            <a:ext cx="361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296120" y="3995640"/>
            <a:ext cx="698400" cy="14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16720" y="3664080"/>
            <a:ext cx="28872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98800" y="3687840"/>
            <a:ext cx="19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6320" y="4044960"/>
            <a:ext cx="239760" cy="18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43440" y="40687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6320" y="4398840"/>
            <a:ext cx="239760" cy="17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43440" y="442260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46960" y="4770360"/>
            <a:ext cx="241200" cy="17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35520" y="47941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46960" y="5102280"/>
            <a:ext cx="24120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35520" y="512604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02400" y="5425920"/>
            <a:ext cx="185760" cy="17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93120" y="54500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46960" y="3843360"/>
            <a:ext cx="241200" cy="18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92320" y="3870360"/>
            <a:ext cx="142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156520" y="5586480"/>
            <a:ext cx="23976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2312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3580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92920" y="5586480"/>
            <a:ext cx="24156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85952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97364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40480" y="5586480"/>
            <a:ext cx="24300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1032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300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67520" y="5586480"/>
            <a:ext cx="24444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3736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5148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84920" y="5586480"/>
            <a:ext cx="13644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48640" y="5614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515440" y="5578560"/>
            <a:ext cx="24444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68000" y="5602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H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440480" y="5854680"/>
            <a:ext cx="19368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48120" y="58802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59520" y="4587840"/>
            <a:ext cx="450720" cy="18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48040" y="3817800"/>
            <a:ext cx="4838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M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248520" y="4398840"/>
            <a:ext cx="63360" cy="189000"/>
            <a:chOff x="6248520" y="4398840"/>
            <a:chExt cx="63360" cy="189000"/>
          </a:xfrm>
        </p:grpSpPr>
        <p:sp>
          <p:nvSpPr>
            <p:cNvPr id="117" name=""/>
            <p:cNvSpPr/>
            <p:nvPr/>
          </p:nvSpPr>
          <p:spPr>
            <a:xfrm>
              <a:off x="6278400" y="4398840"/>
              <a:ext cx="1800" cy="189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248520" y="4398840"/>
              <a:ext cx="63360" cy="142920"/>
            </a:xfrm>
            <a:custGeom>
              <a:avLst/>
              <a:gdLst/>
              <a:ahLst/>
              <a:rect l="l" t="t" r="r" b="b"/>
              <a:pathLst>
                <a:path w="40" h="90">
                  <a:moveTo>
                    <a:pt x="40" y="90"/>
                  </a:moveTo>
                  <a:lnTo>
                    <a:pt x="19" y="0"/>
                  </a:lnTo>
                  <a:lnTo>
                    <a:pt x="0" y="9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640640" y="5910120"/>
            <a:ext cx="192240" cy="63720"/>
            <a:chOff x="7640640" y="5910120"/>
            <a:chExt cx="192240" cy="63720"/>
          </a:xfrm>
        </p:grpSpPr>
        <p:sp>
          <p:nvSpPr>
            <p:cNvPr id="120" name=""/>
            <p:cNvSpPr/>
            <p:nvPr/>
          </p:nvSpPr>
          <p:spPr>
            <a:xfrm flipH="1">
              <a:off x="7640640" y="5940360"/>
              <a:ext cx="1922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89960" y="5910120"/>
              <a:ext cx="142920" cy="63720"/>
            </a:xfrm>
            <a:custGeom>
              <a:avLst/>
              <a:gdLst/>
              <a:ahLst/>
              <a:rect l="l" t="t" r="r" b="b"/>
              <a:pathLst>
                <a:path w="90" h="40">
                  <a:moveTo>
                    <a:pt x="0" y="40"/>
                  </a:moveTo>
                  <a:lnTo>
                    <a:pt x="90" y="19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30280" y="4108320"/>
            <a:ext cx="3247560" cy="1444320"/>
            <a:chOff x="530280" y="4108320"/>
            <a:chExt cx="3247560" cy="1444320"/>
          </a:xfrm>
        </p:grpSpPr>
        <p:grpSp>
          <p:nvGrpSpPr>
            <p:cNvPr id="123" name=""/>
            <p:cNvGrpSpPr/>
            <p:nvPr/>
          </p:nvGrpSpPr>
          <p:grpSpPr>
            <a:xfrm>
              <a:off x="1752120" y="4599720"/>
              <a:ext cx="428400" cy="949680"/>
              <a:chOff x="1752120" y="4599720"/>
              <a:chExt cx="428400" cy="949680"/>
            </a:xfrm>
          </p:grpSpPr>
          <p:sp>
            <p:nvSpPr>
              <p:cNvPr id="124" name=""/>
              <p:cNvSpPr/>
              <p:nvPr/>
            </p:nvSpPr>
            <p:spPr>
              <a:xfrm>
                <a:off x="1752120" y="4861800"/>
                <a:ext cx="428400" cy="426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1958760" y="4599720"/>
                <a:ext cx="1080" cy="265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1962360" y="5283720"/>
                <a:ext cx="1080" cy="265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958760" y="4938120"/>
                <a:ext cx="1080" cy="27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1089360" y="4849200"/>
              <a:ext cx="428400" cy="426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1296000" y="4317120"/>
              <a:ext cx="3240" cy="535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1299240" y="5272560"/>
              <a:ext cx="0" cy="264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96000" y="4926240"/>
              <a:ext cx="0" cy="27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98800" y="5541120"/>
              <a:ext cx="21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72720" y="5552640"/>
              <a:ext cx="21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10120" y="5541120"/>
              <a:ext cx="21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84640" y="4116960"/>
              <a:ext cx="0" cy="66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93280" y="4108320"/>
              <a:ext cx="67104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91200" y="4276440"/>
              <a:ext cx="0" cy="8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38280" y="4320360"/>
              <a:ext cx="10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9240" y="4317120"/>
              <a:ext cx="10911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67400" y="4611240"/>
              <a:ext cx="423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97440" y="4435200"/>
              <a:ext cx="200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46920" y="4611240"/>
              <a:ext cx="10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399040" y="4435200"/>
              <a:ext cx="66852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72040" y="439956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65320" y="428508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65320" y="458532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13440" y="5314320"/>
              <a:ext cx="0" cy="232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16320" y="4593960"/>
              <a:ext cx="0" cy="511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0280" y="4876200"/>
              <a:ext cx="479520" cy="370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n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69440" y="4876200"/>
              <a:ext cx="479520" cy="370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n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05600" y="4699800"/>
              <a:ext cx="372240" cy="334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2040" y="524700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699160" y="4203720"/>
            <a:ext cx="442800" cy="27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406760" y="5267160"/>
            <a:ext cx="422280" cy="649080"/>
            <a:chOff x="4406760" y="5267160"/>
            <a:chExt cx="422280" cy="649080"/>
          </a:xfrm>
        </p:grpSpPr>
        <p:sp>
          <p:nvSpPr>
            <p:cNvPr id="155" name=""/>
            <p:cNvSpPr/>
            <p:nvPr/>
          </p:nvSpPr>
          <p:spPr>
            <a:xfrm>
              <a:off x="4406760" y="5267160"/>
              <a:ext cx="422280" cy="403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613760" y="5665320"/>
              <a:ext cx="1080" cy="250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08000" y="5350320"/>
              <a:ext cx="1080" cy="25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4506840" y="5929200"/>
            <a:ext cx="193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89280" y="3795840"/>
            <a:ext cx="1618560" cy="876960"/>
            <a:chOff x="4589280" y="3795840"/>
            <a:chExt cx="1618560" cy="876960"/>
          </a:xfrm>
        </p:grpSpPr>
        <p:sp>
          <p:nvSpPr>
            <p:cNvPr id="160" name=""/>
            <p:cNvSpPr/>
            <p:nvPr/>
          </p:nvSpPr>
          <p:spPr>
            <a:xfrm>
              <a:off x="5279040" y="4044960"/>
              <a:ext cx="1800" cy="62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89480" y="4036320"/>
              <a:ext cx="660240" cy="31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83080" y="4194000"/>
              <a:ext cx="216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33400" y="4235040"/>
              <a:ext cx="10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0240" y="4228560"/>
              <a:ext cx="484920" cy="6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00240" y="4510440"/>
              <a:ext cx="4849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81040" y="4343400"/>
              <a:ext cx="1976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91600" y="4244400"/>
              <a:ext cx="2160" cy="27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589280" y="4395600"/>
              <a:ext cx="1976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39520" y="4510440"/>
              <a:ext cx="10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5293800" y="4345200"/>
              <a:ext cx="660240" cy="31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96000" y="4478400"/>
              <a:ext cx="70560" cy="590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14360" y="4194000"/>
              <a:ext cx="70560" cy="59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37280" y="4311000"/>
              <a:ext cx="70560" cy="59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756320" y="4361400"/>
              <a:ext cx="70560" cy="594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52080" y="3795840"/>
              <a:ext cx="245520" cy="349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4835520" y="4630680"/>
            <a:ext cx="246240" cy="351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05360" y="5540400"/>
            <a:ext cx="368280" cy="33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606920" y="4387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51240" y="1393920"/>
            <a:ext cx="0" cy="546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916360" y="3198960"/>
                <a:ext cx="239400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R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861120" y="1725480"/>
            <a:ext cx="6912360" cy="788760"/>
          </a:xfrm>
          <a:prstGeom prst="rect">
            <a:avLst/>
          </a:prstGeom>
          <a:solidFill>
            <a:srgbClr val="ff5050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półczynnik tłumienia składowej sumacyjnej CM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703440" y="2030400"/>
          <a:ext cx="8083440" cy="34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2030400"/>
                    <a:ext cx="808344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6245280" y="4189320"/>
            <a:ext cx="192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pensacja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86680" y="18399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669000" y="2101680"/>
            <a:ext cx="0" cy="3146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05680" y="2108160"/>
            <a:ext cx="53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043000" y="5591160"/>
                <a:ext cx="560556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napięcia tranzystorów wejściowego układu różnicowego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prądy nasycenia złączy emiterowyc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2675520" y="992160"/>
            <a:ext cx="36295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pięcie niezrównowa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14:13:21Z</dcterms:created>
  <dc:creator>Agnieszka Kukawczynska</dc:creator>
  <dc:description/>
  <dc:language>en-US</dc:language>
  <cp:lastModifiedBy>MK</cp:lastModifiedBy>
  <dcterms:modified xsi:type="dcterms:W3CDTF">2004-03-08T13:10:29Z</dcterms:modified>
  <cp:revision>73</cp:revision>
  <dc:subject/>
  <dc:title>Wzmacniacze operacyjne</dc:title>
</cp:coreProperties>
</file>